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CF3-731F-4906-B2D3-A0FE5802C4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B53-B289-435E-8E0C-E179929E09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9CF-F242-48D9-8E3A-D171AD856C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Buenas tarde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s tardes. ¡Qué botas tan bonitas! ¿Me las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claro. ¿Qué número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36 (treinta y se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 momentito por favor. Voy a buscarl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quí las tiene. Siéntese aquí, por favor. ¿Qué tal? ¿Le gust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Uh! Me encantan y me quedan muy bien. Me las lle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uy bien, 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8BE-A434-45B3-BD7C-49140AE3F1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B9D-2756-4D7A-B682-80C7344E27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B06-33F7-4BA7-96B0-CD472CBD00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Hola!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Buena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Buenas, me encanta esa camisa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Me la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Sí, como no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talla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La talla 40 (cuarent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Muy bien. Aquí ti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Vale, gra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tal le qued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Uff, me queda un poco ajustada.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¿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La tiene en la talla 42 (cuarenta y do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A ver... un momento... pues, no la tenemos en esa tal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¡</a:t>
            </a: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Qué pena! Bueno, gracias. Adió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Calibri"/>
              </a:rPr>
              <a:t>Adió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FDC4-6432-4F00-B929-E87A6C00FA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6984-E3F5-4418-B52B-B911CE178F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792E-FF59-4AAF-812B-335FD96AB8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4CC-3A46-48B0-B014-AD7ABBDB76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0120-C99B-4729-ADE5-0D3166A404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66"/>
                </a:solidFill>
                <a:uFillTx/>
                <a:latin typeface="Calibri"/>
              </a:rPr>
              <a:t>Transcrip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¡Hola! ¡Buenos días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s. Me encantan esos vaqueros. ¿Me los puedo prob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como no. ¿Qué talla us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talla 42 (cuarenta y do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uy bien. Aquí los tiene. Sígame, el probador está al fon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ale, gra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¿Qué tal le qued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h, no. No me gusta nada como me quedan estos vaqueros. Creo que me quedan muy grandes. ¿Me puedo probar la talla 40 (cuarent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aro. Los tengo aquí, t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ver… creo que estos me quedan b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sí, a mi me parece que le quedan de maravilla. ¿Se los llev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í, me los lle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7EF-E89C-4550-B6B8-0450548D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E02-A095-48A4-B532-260604DD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713-A809-457E-BC00-33789EEB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05B-19BE-48E1-8BA4-68B4248C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959-EF55-4DDA-8544-2EE4325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125-0D66-4948-B63D-D91191F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D50-AD2B-49D6-BEF3-7AA37395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D80-9705-4A44-AFD0-FF51B49F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FE0-3562-470C-A5F9-0A8933DD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298-3A2B-40C0-80BF-3C1355A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F40-C83D-4FF3-8835-B9055A7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FA6-BC48-4742-AD3F-149928A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8044-138C-480E-8EFF-4317B2550F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143000" y="1571760"/>
            <a:ext cx="74296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Complete the gaps on the sheet in front of you in order to work out how to buy clothes in Sp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ShockwaveFlash1"/>
          <p:cNvGraphicFramePr/>
          <p:nvPr/>
        </p:nvGraphicFramePr>
        <p:xfrm>
          <a:off x="155520" y="866880"/>
          <a:ext cx="89218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866880"/>
                    <a:ext cx="8921880" cy="52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98989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092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plete a gap-fill for how to buy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earn how to say “i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earn how to complain about problems with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listen to someone trying to buy clot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1000080" y="714240"/>
            <a:ext cx="46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Direct object prono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81000" y="1660680"/>
            <a:ext cx="72709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Masculin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Femi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Sing.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 lo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la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Plur.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 los 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    las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  <a:ea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971640" y="3425760"/>
            <a:ext cx="7657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6600"/>
                </a:solidFill>
                <a:latin typeface="Arial"/>
                <a:ea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a camisa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a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n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os vaquero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o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n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as zapatilla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a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encanta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ese jersey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¿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Me </a:t>
            </a:r>
            <a:r>
              <a:rPr b="0" lang="fr-FR" sz="22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lo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  <a:ea typeface="Arial"/>
              </a:rPr>
              <a:t> puedo prob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55520" y="758880"/>
          <a:ext cx="8921880" cy="54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758880"/>
                    <a:ext cx="8921880" cy="542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j0290793"/>
          <p:cNvPicPr/>
          <p:nvPr/>
        </p:nvPicPr>
        <p:blipFill>
          <a:blip r:embed="rId1"/>
          <a:stretch/>
        </p:blipFill>
        <p:spPr>
          <a:xfrm>
            <a:off x="7378560" y="2217600"/>
            <a:ext cx="10810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Freeform 6"/>
          <p:cNvSpPr/>
          <p:nvPr/>
        </p:nvSpPr>
        <p:spPr>
          <a:xfrm>
            <a:off x="2571840" y="4857840"/>
            <a:ext cx="1123920" cy="86040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5"/>
          <p:cNvSpPr/>
          <p:nvPr/>
        </p:nvSpPr>
        <p:spPr>
          <a:xfrm>
            <a:off x="900000" y="5157720"/>
            <a:ext cx="10288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-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4833720" y="3610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demasiado ajus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57320" y="173520"/>
            <a:ext cx="251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 quedan b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852440" y="1739520"/>
            <a:ext cx="2619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alta un bot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31840" y="3173760"/>
            <a:ext cx="3298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a cremellera está r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5330160" y="3311280"/>
            <a:ext cx="174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á roto/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-96120" y="5182200"/>
            <a:ext cx="43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un agujero/ una manc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5458320" y="5114160"/>
            <a:ext cx="16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stá su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0" y="718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59840" y="1673640"/>
            <a:ext cx="246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muy ho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baggy top"/>
          <p:cNvPicPr/>
          <p:nvPr/>
        </p:nvPicPr>
        <p:blipFill>
          <a:blip r:embed="rId2"/>
          <a:stretch/>
        </p:blipFill>
        <p:spPr>
          <a:xfrm>
            <a:off x="7143840" y="642960"/>
            <a:ext cx="2233440" cy="116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tbn3.google.com/images?q=tbn:U_of8NSE88ZqSM:http://farm1.static.flickr.com/34/103641205_f26cda80ed.jpg"/>
          <p:cNvPicPr/>
          <p:nvPr/>
        </p:nvPicPr>
        <p:blipFill>
          <a:blip r:embed="rId3"/>
          <a:stretch/>
        </p:blipFill>
        <p:spPr>
          <a:xfrm>
            <a:off x="2500200" y="1714680"/>
            <a:ext cx="120996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thumbs up.gif"/>
          <p:cNvPicPr/>
          <p:nvPr/>
        </p:nvPicPr>
        <p:blipFill>
          <a:blip r:embed="rId4"/>
          <a:stretch/>
        </p:blipFill>
        <p:spPr>
          <a:xfrm>
            <a:off x="2286000" y="0"/>
            <a:ext cx="72864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broken.gif"/>
          <p:cNvPicPr/>
          <p:nvPr/>
        </p:nvPicPr>
        <p:blipFill>
          <a:blip r:embed="rId5"/>
          <a:stretch/>
        </p:blipFill>
        <p:spPr>
          <a:xfrm>
            <a:off x="7286760" y="34290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zip.gif"/>
          <p:cNvPicPr/>
          <p:nvPr/>
        </p:nvPicPr>
        <p:blipFill>
          <a:blip r:embed="rId6"/>
          <a:stretch/>
        </p:blipFill>
        <p:spPr>
          <a:xfrm>
            <a:off x="3429000" y="314316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dirty car.gif"/>
          <p:cNvPicPr/>
          <p:nvPr/>
        </p:nvPicPr>
        <p:blipFill>
          <a:blip r:embed="rId7"/>
          <a:stretch/>
        </p:blipFill>
        <p:spPr>
          <a:xfrm>
            <a:off x="7286760" y="4857840"/>
            <a:ext cx="14238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158004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no me quedan b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masi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aju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estrope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 muy hol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r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iene un aguj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lta un bot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ay una manc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á su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cremallera está rota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very bag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too t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dam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re is a s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missing a butt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has a 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di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zip is bro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y don’t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bro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643040" y="2428920"/>
            <a:ext cx="6842160" cy="1434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.i /  2.b /  3.c/  4.a/ 5.j/ 6.f  7.e/  8.d/  9.g/  10.h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857160" y="1461600"/>
            <a:ext cx="743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Sí se puede cambiarlo/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No puedo devolverle su diner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pero puedo cambiarlo/l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No se puede cambiar sin recib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71640" y="260280"/>
            <a:ext cx="1655640" cy="1150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14240" y="928800"/>
            <a:ext cx="76438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) use the grid to write 4 dialogues complaining about a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) translate each di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sure it is clear who is talking each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ShockwaveFlash1"/>
          <p:cNvGraphicFramePr/>
          <p:nvPr/>
        </p:nvGraphicFramePr>
        <p:xfrm>
          <a:off x="193680" y="857160"/>
          <a:ext cx="889632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857160"/>
                    <a:ext cx="8896320" cy="526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57:20Z</dcterms:created>
  <dc:creator>Chris</dc:creator>
  <dc:description/>
  <dc:language>en-US</dc:language>
  <cp:lastModifiedBy>Chris</cp:lastModifiedBy>
  <dcterms:modified xsi:type="dcterms:W3CDTF">2009-03-09T14:46:25Z</dcterms:modified>
  <cp:revision>2</cp:revision>
  <dc:subject/>
  <dc:title>Slide 1</dc:title>
</cp:coreProperties>
</file>